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9278-190E-45FE-A79C-B950FBDD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07F1-A2DF-4375-BEA6-F3636AFA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9556-1553-47B4-9533-A6FECB01C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F79E-B012-45EC-B0F6-CDD96C043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6D78-1DFE-49FC-88CB-2D6CEE326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EE3D4-C521-477E-9FEB-5B023164F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B585-6891-4212-941D-BE6E42C1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F2B5C-D59B-4DE7-B564-370F912C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67DD-18CE-4DEE-A48A-F0A672D5F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704B-CE0C-4154-AA7B-CBDF9C5B0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749EF-9231-4599-8C71-A195C58C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033D-D6BB-41AA-9680-B1A0C14E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977B-5F7F-496A-A5DE-317CF1854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76C2B-BE67-476C-B10B-0934BD660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E822B-9C95-4A15-B2AC-F6FA1A09C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3256-4E2C-4100-BF1C-DBEA4BF46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42FBF-5055-4683-9E61-3516426CE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8B00-AF08-44C5-8BC9-FF9B6C5EE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B3CA-AA29-4D9B-A517-08194B700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D43B-F1C4-41EB-9395-F11FA75B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CAEB-EB76-4FFA-901A-F015B9D9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8AA8-AB51-4243-A0EC-1A88AA1B2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904E-706D-4476-8AA0-F37555C85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37485-B34F-4E20-9369-12F86FB04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8A400-2F60-431C-BE0A-B687F278A45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6859-EC91-4549-BA12-5B8E2FD13C0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река времени"/>
          <p:cNvPicPr/>
          <p:nvPr/>
        </p:nvPicPr>
        <p:blipFill>
          <a:blip r:embed="rId1">
            <a:lum bright="-12000"/>
          </a:blip>
          <a:srcRect l="4724" t="10366" r="7874" b="6695"/>
          <a:stretch/>
        </p:blipFill>
        <p:spPr>
          <a:xfrm>
            <a:off x="1752480" y="0"/>
            <a:ext cx="5588280" cy="60404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-5400" y="6064920"/>
            <a:ext cx="50972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Чем заканчиваются времена московского государства?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Как называется следующий отрезок?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Река делает крутой поворот. С чьим именем это связано?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   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7720" y="838080"/>
            <a:ext cx="4226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Mangal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академик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герой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То мореплаватель,                        то плотни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Он всеобъемлющей душо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На троне вечный был работник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        </a:t>
            </a:r>
            <a:r>
              <a:rPr b="1" i="1" lang="en-US" sz="3200" spc="-1" strike="noStrike">
                <a:solidFill>
                  <a:srgbClr val="ffffff"/>
                </a:solidFill>
                <a:latin typeface="Mangal"/>
              </a:rPr>
              <a:t>А.С.Пушкин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4" descr="img3"/>
          <p:cNvPicPr/>
          <p:nvPr/>
        </p:nvPicPr>
        <p:blipFill>
          <a:blip r:embed="rId1"/>
          <a:stretch/>
        </p:blipFill>
        <p:spPr>
          <a:xfrm>
            <a:off x="5257800" y="914400"/>
            <a:ext cx="3343320" cy="5256360"/>
          </a:xfrm>
          <a:prstGeom prst="rect">
            <a:avLst/>
          </a:prstGeom>
          <a:ln w="0">
            <a:noFill/>
          </a:ln>
        </p:spPr>
      </p:pic>
    </p:spTree>
  </p:cSld>
  <p:transition spd="med">
    <p:cover dir="rd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914400" y="152280"/>
            <a:ext cx="6769080" cy="13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ётр Первый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2438280" y="1905120"/>
            <a:ext cx="4038840" cy="44942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60" y="6505200"/>
            <a:ext cx="393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ие преобразования задумал Петр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345440" cy="4719600"/>
          </a:xfrm>
          <a:prstGeom prst="rect">
            <a:avLst/>
          </a:prstGeom>
          <a:ln w="0">
            <a:noFill/>
          </a:ln>
        </p:spPr>
      </p:pic>
      <p:sp>
        <p:nvSpPr>
          <p:cNvPr id="115" name="WordArt 4"/>
          <p:cNvSpPr txBox="1"/>
          <p:nvPr/>
        </p:nvSpPr>
        <p:spPr>
          <a:xfrm>
            <a:off x="1447920" y="304920"/>
            <a:ext cx="6173640" cy="11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а армия </a:t>
            </a:r>
            <a:endParaRPr b="1" lang="en-US" sz="44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cover dir="l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"/>
          <p:cNvPicPr/>
          <p:nvPr/>
        </p:nvPicPr>
        <p:blipFill>
          <a:blip r:embed="rId1"/>
          <a:srcRect l="0" t="2083" r="0" b="0"/>
          <a:stretch/>
        </p:blipFill>
        <p:spPr>
          <a:xfrm>
            <a:off x="914400" y="1905120"/>
            <a:ext cx="3497400" cy="3581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2"/>
          <a:srcRect l="0" t="2322" r="4190" b="2322"/>
          <a:stretch/>
        </p:blipFill>
        <p:spPr>
          <a:xfrm>
            <a:off x="4572000" y="2666880"/>
            <a:ext cx="4191120" cy="3124440"/>
          </a:xfrm>
          <a:prstGeom prst="rect">
            <a:avLst/>
          </a:prstGeom>
          <a:ln w="0">
            <a:noFill/>
          </a:ln>
        </p:spPr>
      </p:pic>
      <p:sp>
        <p:nvSpPr>
          <p:cNvPr id="118" name="WordArt 5"/>
          <p:cNvSpPr txBox="1"/>
          <p:nvPr/>
        </p:nvSpPr>
        <p:spPr>
          <a:xfrm>
            <a:off x="1692360" y="62064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latin typeface="Arial"/>
              </a:rPr>
              <a:t>Промышленность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6324120"/>
            <a:ext cx="876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Как вы думаете, могут ли преобразования обходиться легко для народа?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d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295280" y="1828800"/>
            <a:ext cx="6985080" cy="4518000"/>
          </a:xfrm>
          <a:prstGeom prst="rect">
            <a:avLst/>
          </a:prstGeom>
          <a:ln w="0">
            <a:noFill/>
          </a:ln>
        </p:spPr>
      </p:pic>
      <p:sp>
        <p:nvSpPr>
          <p:cNvPr id="122" name="WordArt 6"/>
          <p:cNvSpPr txBox="1"/>
          <p:nvPr/>
        </p:nvSpPr>
        <p:spPr>
          <a:xfrm>
            <a:off x="1676520" y="380880"/>
            <a:ext cx="554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38183" dir="2700000" blurRad="0" rotWithShape="0">
                    <a:srgbClr val="000000">
                      <a:alpha val="44000"/>
                    </a:srgbClr>
                  </a:outerShdw>
                </a:effectLst>
                <a:latin typeface="Arial"/>
              </a:rPr>
              <a:t>Создан флот</a:t>
            </a:r>
            <a:endParaRPr b="1" lang="en-US" sz="1800" spc="1" strike="noStrike">
              <a:ln w="0">
                <a:noFill/>
              </a:ln>
              <a:solidFill>
                <a:srgbClr val="ffff00"/>
              </a:solidFill>
              <a:effectLst>
                <a:outerShdw dist="38183" dir="2700000" blurRad="0" rotWithShape="0">
                  <a:srgbClr val="000000">
                    <a:alpha val="44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wipe dir="d"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98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3"/>
          <p:cNvSpPr txBox="1"/>
          <p:nvPr/>
        </p:nvSpPr>
        <p:spPr>
          <a:xfrm>
            <a:off x="539640" y="228600"/>
            <a:ext cx="7704360" cy="6019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Россия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превратилась 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ильнейшее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r>
              <a:rPr b="1" lang="en-US" sz="1800" spc="1" strike="noStrike">
                <a:ln w="0">
                  <a:noFill/>
                </a:ln>
                <a:solidFill>
                  <a:srgbClr val="ffc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государство</a:t>
            </a:r>
            <a:endParaRPr b="1" lang="en-US" sz="1800" spc="1" strike="noStrike">
              <a:ln w="0">
                <a:noFill/>
              </a:ln>
              <a:solidFill>
                <a:srgbClr val="ffc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 spd="med">
    <p:zoom dir="out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8" descr=""/>
          <p:cNvPicPr/>
          <p:nvPr/>
        </p:nvPicPr>
        <p:blipFill>
          <a:blip r:embed="rId1"/>
          <a:stretch/>
        </p:blipFill>
        <p:spPr>
          <a:xfrm>
            <a:off x="5334120" y="3962520"/>
            <a:ext cx="2971800" cy="2219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419720" y="2285640"/>
            <a:ext cx="4952880" cy="112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Андреевский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 флаг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1640" y="4191120"/>
            <a:ext cx="367524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cc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7" descr=""/>
          <p:cNvPicPr/>
          <p:nvPr/>
        </p:nvPicPr>
        <p:blipFill>
          <a:blip r:embed="rId2"/>
          <a:srcRect l="7702" t="20522" r="7702" b="25653"/>
          <a:stretch/>
        </p:blipFill>
        <p:spPr>
          <a:xfrm>
            <a:off x="609480" y="1905120"/>
            <a:ext cx="3353040" cy="21333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2"/>
          <p:cNvSpPr/>
          <p:nvPr/>
        </p:nvSpPr>
        <p:spPr>
          <a:xfrm>
            <a:off x="-228600" y="304920"/>
            <a:ext cx="4952880" cy="11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Российский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флаг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3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2533680" cy="28195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4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3047760" cy="3392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304920" y="3505320"/>
            <a:ext cx="2533680" cy="2819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"/>
          <p:cNvPicPr/>
          <p:nvPr/>
        </p:nvPicPr>
        <p:blipFill>
          <a:blip r:embed="rId5"/>
          <a:stretch/>
        </p:blipFill>
        <p:spPr>
          <a:xfrm>
            <a:off x="6324480" y="3505320"/>
            <a:ext cx="253368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21896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Arial"/>
                <a:ea typeface="Arial"/>
              </a:rPr>
              <a:t>Академия наук</a:t>
            </a:r>
            <a:endParaRPr b="1" lang="en-US" sz="66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4800240"/>
            <a:ext cx="85345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Основана в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Arial"/>
              </a:rPr>
              <a:t>1725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 году по распоряжению Петра</a:t>
            </a:r>
            <a:r>
              <a:rPr b="1" lang="en-US" sz="3200" spc="-1" strike="noStrike">
                <a:solidFill>
                  <a:srgbClr val="ffcc66"/>
                </a:solidFill>
                <a:latin typeface="Arial"/>
                <a:ea typeface="Arial"/>
              </a:rPr>
              <a:t> I</a:t>
            </a:r>
            <a:r>
              <a:rPr b="1" lang="ru-RU" sz="3200" spc="-1" strike="noStrike">
                <a:solidFill>
                  <a:srgbClr val="ffcc66"/>
                </a:solidFill>
                <a:latin typeface="Arial"/>
                <a:ea typeface="Arial"/>
              </a:rPr>
              <a:t>.                                                                                      Она называлась Императорская академия наук и художеств</a:t>
            </a:r>
            <a:r>
              <a:rPr b="1" i="1" lang="ru-RU" sz="3200" spc="-1" strike="noStrike">
                <a:solidFill>
                  <a:srgbClr val="ffcc66"/>
                </a:solidFill>
                <a:latin typeface="Times New Roman"/>
              </a:rPr>
              <a:t>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rcRect l="0" t="0" r="0" b="32828"/>
          <a:stretch/>
        </p:blipFill>
        <p:spPr>
          <a:xfrm>
            <a:off x="2057400" y="1752480"/>
            <a:ext cx="5181480" cy="259884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4-01T18:52:56Z</dcterms:modified>
  <cp:revision>1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